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A98-B5BD-4E0C-BA09-F6C5A08C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5B4-70D0-43C0-A5E6-F65461B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C1A-1A15-458B-A11C-91928055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8FB-0D00-49A4-8640-9BE774A1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54D-0D09-4DE6-A681-24EF0CB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FA4-CC0A-4141-97E0-B20951D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1E8-2340-415F-A8EA-5B2CB47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B8A-C3C5-4777-BE19-8ECC14D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371-A668-46C2-88A9-4D72FEC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B86-8F51-4725-AF48-CBDC498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CBF-5F82-4A70-BCF2-69E227CB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608-79EC-40AC-881C-627F0C9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B0C-7584-4388-BB00-66445479D4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e5e5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1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44" name="Group 3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45" name="Group 9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46" name="Group 7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47" name="Freeform 4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5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6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" name="Freeform 8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23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52" name="Group 13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53" name="Freeform 10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1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2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Freeform 14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7061040" y="914400"/>
                  <a:ext cx="262080" cy="37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66" name="Freeform 24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9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68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69" name="Freeform 25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26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" name="Freeform 28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Freeform 30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40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75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HAPTER 4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Experience of Emp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hteenth-Century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h of Political Cul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Colonists attempted to emulate British political instit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ffort led to discovery of how different they were from English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Example: Royal gover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wers than king in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 legi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miss ju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 provincial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Geneva"/>
              </a:rPr>
              <a:t>Colonial Assemblies/Legisl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Middle-class democrac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imary function was to prevent the encroachments on the people’s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Assemblies controlled colony’s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No incentive for assembly to cooperate with governors (sometimes even hostile toward t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Exercised extreme vigilance against the spread of privileged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ntury of Imperia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colonies overwhelmingly militarily superior to New France but in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, 17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IVI7233078"/>
          <p:cNvPicPr/>
          <p:nvPr/>
        </p:nvPicPr>
        <p:blipFill>
          <a:blip r:embed="rId2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entury of Conflict: Major Wars, 1689–17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DIVI"/>
          <p:cNvPicPr/>
          <p:nvPr/>
        </p:nvPicPr>
        <p:blipFill>
          <a:blip r:embed="rId2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 Years’ War/French and Indian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Wars fought for control of the Mississippi River and Ohio River Val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ime Minister William Pitt shifted strategy to focus on North America (reason for vic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eace of Paris 1763: France 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tish got all North America east of Mississi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nch retained two Caribbea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his particular war had the greatest impact on the colonies politically and economic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 Years’ War, 1756–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DIVI7233082"/>
          <p:cNvPicPr/>
          <p:nvPr/>
        </p:nvPicPr>
        <p:blipFill>
          <a:blip r:embed="rId2"/>
          <a:srcRect l="1188" t="1575" r="1188" b="2557"/>
          <a:stretch/>
        </p:blipFill>
        <p:spPr>
          <a:xfrm>
            <a:off x="1447920" y="198108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Geneva"/>
              </a:rPr>
              <a:t>Albany Con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Albany Congress, 17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Benjamin Franklin’s idea of central colonial governm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cted representatives decide on matters of defense, western expansion, and relations with Native Americ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ld levy taxes to support its oper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eneva"/>
              </a:rPr>
              <a:t>Albany Plan failed, disliked by English and Americ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6" descr=""/>
          <p:cNvPicPr/>
          <p:nvPr/>
        </p:nvPicPr>
        <p:blipFill>
          <a:blip r:embed="rId2"/>
          <a:srcRect l="0" t="-29364" r="0" b="-2936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s of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Made colonists aware of thei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Created trained officer corps that knew British vulner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Colonists saw themselves as “junior partners” to Brit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eneva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 America after 17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DIVI7233084"/>
          <p:cNvPicPr/>
          <p:nvPr/>
        </p:nvPicPr>
        <p:blipFill>
          <a:blip r:embed="rId2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Growth and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Much growth through natural incre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  <a:ea typeface="Geneva"/>
              </a:rPr>
              <a:t>Large influx of non-English Europ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Scots-Irish Flee English O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Germans Search for a Bett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Convict Settl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tribution of European and African Immigrants in the Thirtee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IVI7233063"/>
          <p:cNvPicPr/>
          <p:nvPr/>
        </p:nvPicPr>
        <p:blipFill>
          <a:blip r:embed="rId2"/>
          <a:srcRect l="0" t="0" r="1411" b="0"/>
          <a:stretch/>
        </p:blipFill>
        <p:spPr>
          <a:xfrm>
            <a:off x="2666880" y="19051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b0511"/>
                </a:solidFill>
                <a:latin typeface="Calibri"/>
              </a:rPr>
              <a:t>Native Americans Stake Out a Middle 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b0511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Many eastern Indians moved into trans-Appalachian region (Middle Grou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0511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b0511"/>
                </a:solidFill>
                <a:latin typeface="Calibri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0511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Play English and French again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anish Borderland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.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IVI7233069"/>
          <p:cNvPicPr/>
          <p:nvPr/>
        </p:nvPicPr>
        <p:blipFill>
          <a:blip r:embed="rId1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b0511"/>
                </a:solidFill>
                <a:latin typeface="Calibri"/>
              </a:rPr>
              <a:t>Economic 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Long-term period of economic and 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Economies were geared to commerce, not manufac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Trade was mainly with England and West Indies (West Indies provided merchants with profits that offset their British deb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English mass-production of consumer goods stimulated rise in colonial imp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</a:rPr>
              <a:t>Inhabitants emulated English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b0511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b0511"/>
                </a:solidFill>
                <a:latin typeface="Calibri"/>
                <a:ea typeface="Geneva"/>
              </a:rPr>
              <a:t>Trade between colonies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at Wagon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IVI7233075"/>
          <p:cNvPicPr/>
          <p:nvPr/>
        </p:nvPicPr>
        <p:blipFill>
          <a:blip r:embed="rId1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Enlighte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Intellectual movement that swept Europe with new, rad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Rea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ing for useful, practical knowledg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The Enlightenment’s basic assump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stic view of human n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d set up the universe and human society to operate by natural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Mixed reception in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Geneva"/>
              </a:rPr>
              <a:t>Religious Reviv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he Great Awake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ntaneous, evangelical revivals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aken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authority of the old colonial reli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began to re-think basic assumptions about church and state, institutions and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athan Edwards emphasized the Calvinistic teachings of the Puritans (the importance of personal religious exper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wakening promoted a democratic, religious union of national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tered sense of American unity/ident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2:41:04Z</dcterms:created>
  <dc:creator/>
  <dc:description/>
  <dc:language>en-US</dc:language>
  <cp:lastModifiedBy>Buffalo Grive High School</cp:lastModifiedBy>
  <dcterms:modified xsi:type="dcterms:W3CDTF">2010-09-08T13:56:22Z</dcterms:modified>
  <cp:revision>22</cp:revision>
  <dc:subject/>
  <dc:title>CHAPTER 4 Experience of Empire: Eighteenth-Century America</dc:title>
</cp:coreProperties>
</file>